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3BC-E2ED-4211-A518-66D57EDA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A15-AA50-4187-877D-CF512E32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1DB-B4D8-4ECC-89DB-E2C88C3C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E84-4B98-45EC-AF41-56A7C076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0690-18E1-461D-965E-9754698C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160A-0E81-419A-B5FC-1BACAE21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AC30-496A-4F64-AF84-2A0EA54C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EAAE-730D-40E1-A484-615D7AF5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7B82-8A4B-4BD6-BA08-BB36C0C9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19B1-DB22-40C2-88AF-76C31D17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FDA7-327C-456E-9403-EBB8B4EA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88C-3512-4978-A3BB-5C7DE476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53A3-E603-465B-82DA-506053DB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A96F-1115-47E7-B1F5-86D797A0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84A0-AF4B-4DFC-89A3-68814B62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8AB1-C7E7-49AD-8D1C-C0BF9F07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76CC-A123-4D79-9E0B-4B7FD895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26E-C193-44F8-8902-59BA3C06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106-D363-46E4-80E3-3A1E3CD2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DED-69B2-45DA-BE54-9F486934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8D9-3F23-406A-A579-C1BB8944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84F-746A-4275-A149-768CAF14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7DC-8AA7-4694-A569-03EEF9F3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B70-9539-4C22-B027-0CA176D4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B6B8-0E7B-439C-9555-DA5B24F71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0F3B-2F95-41B2-89CA-EB9BAD17C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8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Life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What is…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d “What is science” back at the beginning of the year.  Now, “What is lif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ir, get out a piece of paper and make it like 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, what are the characteristics of life?  What must something have or be in order to be a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have your list, think of things you know are alive or you know are not.  Be sure that they fit your list of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90720" y="53352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bola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inted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adkilled squir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ak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ther b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sp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rannosaurus Rex fos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Streptococ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sh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ri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heck Your Answer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alk to another table and compare your lists.  Your job is to argue your point: prove to them that you are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put something in a different column than they did, convince them to mov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different characteristics of life than them, convince them to change theirs to y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haracteristics of Life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de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produ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tains and uses materials and energy (“metabolism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 a group, change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ponds to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ows and devel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Living vs Non-Living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ving: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thing that is now or once was alive.  Also called “biotic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ISM: A single individual or a type (like a species) of living 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IVE: An individual organism that currently has all the characteristics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AD: An individual organism that once met all the characteristics of life but now isn’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-Living: Never was and never will be a living organism.  Also called “abiotic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Living vs. Non-Living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bola vi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inted Tur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oadkilled squir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ak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uter vi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ther b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le sp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yrannosaurus Rex 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le Streptococ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ush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ri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Biodiversit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know already about the different kinds of living things on the Earth?  What are all the different ways of classifying things that you’ve heard 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class master list on the blackboard. Use diagrams, flowcharts, tables, or images if you remember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y terms as best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Upcoming Material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emester will be devoted to two main top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diversity = The diversity of life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s between major groups of living things.  (Taxonomy/Clas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loser look at the features of a small handful of groups of living th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actions between living things (individuals and groups) and their environment (including other individuals and group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4:25:39Z</dcterms:created>
  <dc:creator>Rebecca Stang</dc:creator>
  <dc:description/>
  <dc:language>en-US</dc:language>
  <cp:lastModifiedBy>Rebecca Stang</cp:lastModifiedBy>
  <dcterms:modified xsi:type="dcterms:W3CDTF">2009-02-01T20:35:43Z</dcterms:modified>
  <cp:revision>12</cp:revision>
  <dc:subject/>
  <dc:title>PowerPoint Presentation</dc:title>
</cp:coreProperties>
</file>